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A47-E79B-4BEE-99E5-B40A68E2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0D3-4324-4534-A442-B3D997CB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E16-D11A-46BF-AE79-CAEFDEC7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AAA-A891-4E2A-8334-A12A6310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A5A2-C427-4A20-96C9-6C2294DA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C902-88B5-4D8D-BD68-9A7E70F0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901-5BAF-43E4-A0D0-F53CEA15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118-D7F9-484E-B906-8EDF7A52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127-4151-4B8A-8751-C9D03BDE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7B95-440D-4F9E-8B03-93CAADFA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A39-C261-45B6-A18E-E29F21A9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2566-0FF3-4ABE-B4BD-998FCED2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a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3B49-B1D0-44B9-B8FA-0E585629ED9F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 este efectul de ser</a:t>
            </a:r>
            <a:r>
              <a:rPr b="1" lang="ro-RO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ă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are realizată de echip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“</a:t>
            </a:r>
            <a:r>
              <a:rPr b="1" lang="en-US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scoperitorilor ” </a:t>
            </a:r>
            <a:r>
              <a:rPr b="1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ă di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luca, Adriana, George </a:t>
            </a:r>
            <a:r>
              <a:rPr b="1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i Radu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a a XI-a  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50920" y="333360"/>
            <a:ext cx="7705800" cy="63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e unde vine aceasta denumire « efectul de se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 » 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Câ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d un g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inar dore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 s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cultive o plant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la o temperatura superioa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celei de afa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, el o pune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înt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se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 Peretele translucid al serei permite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razelor s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calzeasc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solul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 s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re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na caldura emis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de acesta. De unde o cre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re a temperaturii din interiorul serei raportat la temperatura ambiant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oarele emite pe pamant caldura si lumina. Aceasta emisie acope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intreaga gam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de raze cuprinse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tre ultraviolete, infraro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 lumin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vizibil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O treime din aceste raze este reflectat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de atmosfe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, iar o parte din ultraviolete este absorbit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de stratul de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zon. Cele ce p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rund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 atmosfera lumineaza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c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zesc P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tu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tul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c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zit emite la 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dul sau radia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i c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re spa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ţi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u. Emisia P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tului se rezum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doar la gama de infraro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Or, c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va din gazele ce se g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esc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 atmosfe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au capacitatea s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absoarb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acest tip de infraro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 de a produce c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du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 Acest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du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spore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 temperatura atmosferei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c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ze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 din nou P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tul. Aceste gaze poarta numele de « gaze cu efect de se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 ». Pentru planeta noast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, ele au rolul pe care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 are peretele translucid pentru solul unei se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era-gif"/>
          <p:cNvPicPr/>
          <p:nvPr/>
        </p:nvPicPr>
        <p:blipFill>
          <a:blip r:embed="rId1"/>
          <a:stretch/>
        </p:blipFill>
        <p:spPr>
          <a:xfrm>
            <a:off x="428760" y="428760"/>
            <a:ext cx="77054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539640" y="620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efectul-de-sera"/>
          <p:cNvPicPr/>
          <p:nvPr/>
        </p:nvPicPr>
        <p:blipFill>
          <a:blip r:embed="rId1"/>
          <a:stretch/>
        </p:blipFill>
        <p:spPr>
          <a:xfrm>
            <a:off x="0" y="0"/>
            <a:ext cx="4505400" cy="3343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8388360" y="3062160"/>
            <a:ext cx="2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50920" y="350028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nc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zirea global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 este fenomenul de cr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re a temperaturilor medii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registrate ale atmosferei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 imediata apropiere a solului, precum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 a oceanelor. 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enomenul de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c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zire global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ceput sa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grijoreze dup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nii '60,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 urma dezvolt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ii industriale masive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 a cr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rii concentr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ei gazelor cu efect de ser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care sunt considerate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 mare masur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responsabile de acest fenome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716360" y="333360"/>
            <a:ext cx="30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Efectul de seră este procesul prin care atmosfera captează o parte din energia solară, încălzind Pământul şi modificând cli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428760" y="357120"/>
            <a:ext cx="850104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arele emite un spectru complet de radia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electromagnetice printre care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el numit radia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optic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ltraviolet UV, vizibil, Infraro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IR). 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ro-RO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1" lang="ro-RO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â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tul reflect</a:t>
            </a:r>
            <a:r>
              <a:rPr b="1" lang="ro-RO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ă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30% din radia</a:t>
            </a:r>
            <a:r>
              <a:rPr b="1" lang="ro-RO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ţ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a primit</a:t>
            </a:r>
            <a:r>
              <a:rPr b="1" lang="ro-RO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de la soare, restul de 70% este absorbit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ş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rin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alzirea suprafetelor (p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, oceane, vegeta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) acestea emit radia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IR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atmosfer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acelasi timp P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ul, fiind un corp cald,  emite 70% radia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termic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R. Astfel ciclul energetic este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s.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imagine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rmătoare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prezint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portamentul gazelor din atmosfer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a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radia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solar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 ş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radia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termic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ului. Efectele prezentate sunt calitative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u cantitativ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le molecule de gaz din atmosfer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azele de ser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u proprietatea de-a absorbi radia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termic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mis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P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e-a se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zi. Astfel se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zeste atmosfera. Acest mod de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zire se numeste efect de ser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el asigur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di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e dezvolt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i vie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e P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prin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zirea atmosferei terestre.Dac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ar exista acest fenomen de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alzire a atmosferei, temperatura medie a planetei ar fi in jurul a -10° C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5429160" y="0"/>
            <a:ext cx="3357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orit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bsorb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 radia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i termice de c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 moleculele de CO2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vaporii de ap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produce o cre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e a temperaturii medii a atmosferei la aproxi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iv  +15 ° C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ceasta face posibil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ţ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treibhauseffekt"/>
          <p:cNvPicPr/>
          <p:nvPr/>
        </p:nvPicPr>
        <p:blipFill>
          <a:blip r:embed="rId1"/>
          <a:stretch/>
        </p:blipFill>
        <p:spPr>
          <a:xfrm>
            <a:off x="571680" y="0"/>
            <a:ext cx="4506840" cy="409572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642960" y="4286160"/>
            <a:ext cx="828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st efect este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plificat se produc dezechilibr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jore energetice care duc la dezastre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fecteaz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iar via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e P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ete precum Venus , care au o atmosfer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lt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og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O2, dezvolt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ecte de ser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 temperaturi foarte mari, de sute de grade Celsius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539640" y="189000"/>
            <a:ext cx="712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Object 6"/>
          <p:cNvGraphicFramePr/>
          <p:nvPr/>
        </p:nvGraphicFramePr>
        <p:xfrm>
          <a:off x="1428840" y="214200"/>
          <a:ext cx="5707080" cy="48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214200"/>
                    <a:ext cx="5707080" cy="48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7"/>
          <p:cNvSpPr/>
          <p:nvPr/>
        </p:nvSpPr>
        <p:spPr>
          <a:xfrm>
            <a:off x="611280" y="522936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50920" y="5300640"/>
            <a:ext cx="8893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astă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bserv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m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odul în care are loc absorb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radia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i infraro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de c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ele gazelor de ser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re ulterior emit radia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infraro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, în toate direc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e, producând astfel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carea aceste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6840" y="713880"/>
            <a:ext cx="825804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ele benefice ale </a:t>
            </a:r>
            <a:r>
              <a:rPr b="1" lang="ro-RO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</a:t>
            </a:r>
            <a:r>
              <a:rPr b="1" lang="ro-RO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zirii global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ste tot se discuta despre p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ile negative ale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zirii globale.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vantaje.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adele de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zire global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 anterioar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reprezentat pentru oameni epoci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ad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bunden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nd civiliza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e au f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 salturi uria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schimb, epocile glaciare au reprezentat timpuri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are dezvoltarea uman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-a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etinit sau chiar a regresat. Geologul australian Plimer spune c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zirea global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e un fenomen pe care oamenii ar trebui s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r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eze ca un prevestitor al vremurilor bune care vor ven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OGRAF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omune.ro/?/tema_consultanta/icon8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.wikipedia.or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www.meteo.ro/articol/33/Ce-este-incalzirea-globala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.greenhouse.gov.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://greenblog.descopera.ro/tag/incalzire-globala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://www.comune.ro/files/efect-de-sera-w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http://www.ecomagazin.ro/cauzele-incalzirii-globale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http://www.spune-ce-vrei.go.ro/date/planeta-pamant/atmosfera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www.infomediu.eu/incalzirea-globala-un-adevar-incomod-sau-o-minciuna-convenabila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http://www.cceg.ro/publicatii/pliante/pliant%20clima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3:04:21Z</dcterms:created>
  <dc:creator>HE</dc:creator>
  <dc:description/>
  <dc:language>en-US</dc:language>
  <cp:lastModifiedBy>HE</cp:lastModifiedBy>
  <dcterms:modified xsi:type="dcterms:W3CDTF">2010-12-19T15:43:46Z</dcterms:modified>
  <cp:revision>21</cp:revision>
  <dc:subject/>
  <dc:title>Ce este efectul de seră?</dc:title>
</cp:coreProperties>
</file>